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D54-E61C-433B-AA59-D8B88525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DFB-C271-4AA6-A704-A42F603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CAA-4C7A-4BCB-B5BD-785FF873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F7A-2596-4471-8ED0-BC2F8809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A4C-C5FD-43D2-9A70-A9FA2334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A3E-1C34-456E-BAEE-E484425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DE3-E9DA-4B80-8C89-A1F27774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EED-9CA8-44DD-BD4C-1B9CD8AC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536-B394-407B-A401-BE4188C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0FF-4385-4FDE-B758-B73225F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620-842E-46A3-BF5E-71D4561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80-313B-45BE-82FC-A1C17CB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342-47ED-448C-9588-0F696F48E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9CKkbLUiI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ience and Studyi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cienc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ce begins a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iosity and tries to end with disco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133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of knowledg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d the methods used to find that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66688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sts use models to help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ring things into perspective and to make it easier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use a systematic method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cientific metho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ry and discover the answers to their curio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1911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eps includ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bservations, forming hypothesis, testing the hypothesis, analyzing and drawing conclu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9528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n min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ne test does not make a theory AND parts, predictions and ideas of the experiment can be rev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also communicat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the same language (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37160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yste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measurement similar to metr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use things like inches and they use things like centimeters….BUT WE ALL IN SCIENCE USE THE SAME (centimeters, for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et origin fr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eek scientist Democritis, who says they are indivi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733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= Early Scient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tter is made up of individual particles called atoms (too small to study to obser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343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toms hav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o electrical charge 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neu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724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Thomson through experiment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ovides first evidence that atoms are made of smaller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omson’s experimen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ee pg. 103) showed the presence of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egatively 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 gold foil experiment (see pg 1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1337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ims a narro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eam of alpha particles at a thin piece of gold foi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ing a scree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round the gold, rutherford was hoping to be able to follow the path an alpha particle takes after it passes through the g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did not behave like he thought:  some went straight through, some bounced off at weird angles, while some came stra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9625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rutherford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uggests the nucleus, where positive charges hang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914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mad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 main par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981080"/>
          <a:ext cx="6933960" cy="227808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bout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rot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eutr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143000" y="44197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mass of 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om mostly in the 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ructur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 = #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in an element.  Atoms of any given element has same # of 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Hydrogen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 proton = Atomic number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number = tells how man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and n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there are in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819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Al = Alumi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mass number is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886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tons  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neu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– atoms of the sam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 that have different #’s of neutrons, thus different mass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sotopes do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same atomic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# of protons stay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ss # differ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ecause # of neutrons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Oxyg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O) – 8 protons (never chang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oxygen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 neutrons, giving a mass # of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3526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ing isotopes =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sing the element name and mass number  (Oxygen –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3434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s a number after it, we are talking about an isot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2:02Z</dcterms:created>
  <dc:creator>Farwell Area Schools</dc:creator>
  <dc:description/>
  <dc:language>en-US</dc:language>
  <cp:lastModifiedBy>User</cp:lastModifiedBy>
  <dcterms:modified xsi:type="dcterms:W3CDTF">2010-08-08T23:34:44Z</dcterms:modified>
  <cp:revision>27</cp:revision>
  <dc:subject/>
  <dc:title>Note Guide 1-1 Studying Atoms</dc:title>
</cp:coreProperties>
</file>